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6C71-6AA4-447A-8071-1FAFDE18E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076A-DBB8-407D-8034-5469A8BE0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F709-5BE9-4D00-A986-4E1616F2F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9CEB-8C7E-4B75-87AE-3C78CC908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F41E-F9EA-4C82-9896-D3FF70913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B5BF-0050-4944-9AEB-5BF9CD816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CEE1-707A-48BE-83FC-ABECC913C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D5B0-BD6F-4DB7-83B2-FA2015506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97E8-49F1-4905-AC9C-580E84820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FC82-6EA7-4851-BB20-76D3B3962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BBBF-F147-4696-B7F9-3C7C2B616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04AD-17EC-44F1-8F30-93D9EF5D1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9DACB-0820-45BA-BEFB-2A4C6A41B2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as &amp; Pronou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thew, Mary Rob &amp; La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arate items in a se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etta, Lucia, and Ben are rehearsing a scene from the musical Gre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parate two or more adjectives proceeding a no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therine Dunham is a creative, talented dancer and choreograp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 comma before and, but, or, nor, for, so, and yet when they join independent cla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will work with Emma, and Josh will help with B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set of non essential clauses and non essential phr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h of the kittens, frightened by the thunder, jumped into my la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 certain introductory el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l, what do you think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set of elements that interrupt a sent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pa, a game similar to volleyball, is a popular sport in the Philipp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noun Agre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ronoun should agree with it’s antecedent in number and in pers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thur Mitchell founded his own ballet compan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ular pronouns are used to refer to the following antecedents: anybody, anyone, anything, each, either, everybody, everyone, everything, neither, nobody, no one, nothing, one, somebody, someone, something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of these women runs her own busin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plural pronoun is used to refer to two or more singular antecedents joined by 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lda and Lupe presented their repor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ingular pronoun is used to refer to two or more singular antecedents joined by or or n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ther Paul or Diego is willing to drive his c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a singular and a plural antecedent are joined by or or nor, the pronoun usually agrees with the nearer anteced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ither the puppies nor our full-grown dog likes its new to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0T13:23:16Z</dcterms:created>
  <dc:creator>User</dc:creator>
  <dc:description/>
  <dc:language>en-US</dc:language>
  <cp:lastModifiedBy>User</cp:lastModifiedBy>
  <dcterms:modified xsi:type="dcterms:W3CDTF">2006-10-10T13:43:54Z</dcterms:modified>
  <cp:revision>2</cp:revision>
  <dc:subject/>
  <dc:title>Commas &amp; Pronouns</dc:title>
</cp:coreProperties>
</file>